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A93-6AEB-4B2B-9ACA-7DB24185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61C-F761-43BF-9690-15A54F3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C68-3379-429D-A8B8-3F8135BC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071-A378-4C33-BA2F-C9FCDC17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F3B-1221-434D-8AE4-A0E620FF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A34-CF18-47B3-9DE0-809A3B49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094-7A9F-4537-9384-B01BE73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6A2-B705-424F-BC1A-4FBF7855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122-CAF0-4CDA-AA31-E8CC3692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798-3EFD-4893-BDBD-80ECA32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299-71CE-4F3B-ADEC-1433772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909-24D3-4789-A5D0-4E61E23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DFC6-56EE-483E-B5B8-657BD46CA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FFD-D9B7-4C0E-8A50-E5FB1897A2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January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flow began Monday 1/24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rch RMS (3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script scheduled to complete on Day 31 (3/7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F78-12EB-402C-8DE4-66AA5C3E5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ising 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1 - 558 Tasks - 100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2 - 533 Tasks - 100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3 - 313 Tasks - 100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4 - 502 Tasks - 99.8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5 - 690 Tasks - 92.3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6 - 576 Tasks - 14.1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34E-C55F-4EBF-8432-A0AEDAB769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F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04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Orientation 3/1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ine for signup 3/9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vity Begins 3/15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Kick-off call 4/8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62B-FC19-48DD-9BBC-913D42A4A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3-02T17:08:32Z</dcterms:modified>
  <cp:revision>361</cp:revision>
  <dc:subject/>
  <dc:title>PowerPoint Presentation</dc:title>
</cp:coreProperties>
</file>